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A1F-9885-4C12-A1F5-09F10A68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8B6-DC20-415B-93EB-D000AE36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F4A-8345-43E6-8268-1752B433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8F5-DBDA-4FF6-B931-C2ECD12D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5FD4-E7C2-46D6-A1A3-1C1BE42A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0D78-B780-457C-BC05-AC1412DB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3CF4-EB4E-4ABB-88C5-60F4F9DF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E222-390B-48F6-B6E6-E626962D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920C-2D21-4DCC-9DCF-A7798F3D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C456-1C8F-479D-BB87-B7A49E8E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F707-A245-4301-9872-973FFBA1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880-5EE1-46C6-B180-50EC5E6F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0F9-FB98-4EF9-99D7-9D83A3C5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B5E8-B834-4F68-B4D1-5C17FAFD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EE3A-07EF-47C5-8AA9-D0B10668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5577-1E76-450F-A8AC-A31ED0CF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C828-CE3F-4131-AAF9-EC07504F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2BD-EE3E-4B9E-8C2D-5DB7F0D3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EAB-D389-4F11-A1FC-B17ECD85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514-E684-4F89-B25B-A70B7CF9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8C3-8395-4E46-82C3-10FEFDB3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679-3F4F-4C90-B418-52934F26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77C-B3D3-4793-B039-6A46E524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378-A4EA-4C83-9860-AF7853F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8FB8-BC82-430E-B124-5A9D5A84D46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2560"/>
              <a:chOff x="0" y="3200400"/>
              <a:chExt cx="9144000" cy="412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3720"/>
                <a:ext cx="9144000" cy="1029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66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0000"/>
                <a:ext cx="9144000" cy="102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1F90-E03B-494A-A3E2-127357A47E5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828800" y="2438280"/>
            <a:ext cx="5334120" cy="369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udy practi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62120" y="27432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puertas hay en la sala de clase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3880" y="4876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cuatro puert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62120" y="27432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pupitres hay en la sala de clase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veintisiete pupit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haces aho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676520" y="4267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preparando la cena. ¿Quieres ayudar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fecha del Día de Acción de Graci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00200" y="44956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veintiocho de nov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países de Europ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600200" y="4800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spaña, Portugal, Italia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capital de Costa 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676520" y="50292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San Jo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cuesta este libro de Cub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49528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1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mment 4"/>
          <p:cNvSpPr/>
          <p:nvPr/>
        </p:nvSpPr>
        <p:spPr>
          <a:xfrm>
            <a:off x="1143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el profesión de tu pap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600200" y="4800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baja en una ofic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cumples añ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600200" y="4800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 cumpleaños es el próximo lu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tiempo hace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ueve y hace vien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04920" y="2666880"/>
            <a:ext cx="8381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cuesta la chaque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cincuenta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5"/>
          <p:cNvSpPr/>
          <p:nvPr/>
        </p:nvSpPr>
        <p:spPr>
          <a:xfrm>
            <a:off x="83808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fecha de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523880" y="4724280"/>
            <a:ext cx="61722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1</a:t>
            </a:r>
            <a:r>
              <a:rPr b="0" lang="en-US" sz="4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de octu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cuesta el disco compacto de Sant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676520" y="48006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a eso de los 1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4"/>
          <p:cNvSpPr/>
          <p:nvPr/>
        </p:nvSpPr>
        <p:spPr>
          <a:xfrm>
            <a:off x="1143000" y="2592360"/>
            <a:ext cx="2666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  vas a comprar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600200" y="47242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comprarlo después de la escuela h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tiempo hace en invierno en Minneso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76520" y="48006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ce mucho frío y nie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762120" y="27432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fecha del día de independencía en Méx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600200" y="5105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17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descubrió el nuevo mundo Columb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57200" y="46483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 el año mil cuatrocientos noventa y d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  días hay en el mes de febrer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47242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28 días en febrero y a veces 2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minutos hay una ho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38080" y="4724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sesenta minutos en una h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2120" y="21337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haces cuando hace mal tiemp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447920" y="40384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ando hace mal tiempo, veo la tele o leo un lib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mment 4"/>
          <p:cNvSpPr/>
          <p:nvPr/>
        </p:nvSpPr>
        <p:spPr>
          <a:xfrm>
            <a:off x="1219320" y="198108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762120" y="2743200"/>
            <a:ext cx="7696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 costó tu coch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tó 15 mil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4"/>
          <p:cNvSpPr/>
          <p:nvPr/>
        </p:nvSpPr>
        <p:spPr>
          <a:xfrm>
            <a:off x="1143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tu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7-41-12-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es tu nomb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 nombre es Sa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es el número de teléfono d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676520" y="48006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5-55-52-6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" y="2743200"/>
            <a:ext cx="8534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ú eres de aquí, ¿______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62120" y="434340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Soy de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Comment 4"/>
          <p:cNvSpPr/>
          <p:nvPr/>
        </p:nvSpPr>
        <p:spPr>
          <a:xfrm>
            <a:off x="4724280" y="2592360"/>
            <a:ext cx="1600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 está corre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676520" y="457200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rreos está al lado de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 está el ban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676520" y="457200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 banco está enfrente de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son tus amig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295280" y="4495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, Julia, y 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ment 4"/>
          <p:cNvSpPr/>
          <p:nvPr/>
        </p:nvSpPr>
        <p:spPr>
          <a:xfrm>
            <a:off x="12193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 se llama la profesora de teatr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676520" y="487692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Violeta Astor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4"/>
          <p:cNvSpPr/>
          <p:nvPr/>
        </p:nvSpPr>
        <p:spPr>
          <a:xfrm>
            <a:off x="1143000" y="2592360"/>
            <a:ext cx="20574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son los estudiantes de ar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676520" y="45720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de Columbia, de Cartage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4"/>
          <p:cNvSpPr/>
          <p:nvPr/>
        </p:nvSpPr>
        <p:spPr>
          <a:xfrm>
            <a:off x="1981080" y="259236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85800" y="2133720"/>
            <a:ext cx="73915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estudiantes hay en la escuela de arte Simon Boliv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38080" y="49528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a eso de doscientos estudiantes al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omment 4"/>
          <p:cNvSpPr/>
          <p:nvPr/>
        </p:nvSpPr>
        <p:spPr>
          <a:xfrm>
            <a:off x="1143000" y="198108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años tien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676520" y="464832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ene veintidos añ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vas a hacer este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676520" y="4800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l restaurante méxicano con mi fami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42670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ómico y simpático.  Tiene talen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mment 4"/>
          <p:cNvSpPr/>
          <p:nvPr/>
        </p:nvSpPr>
        <p:spPr>
          <a:xfrm>
            <a:off x="1143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Robert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80880" y="41148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uen músico. Toca el saxofón y la clarinete muy b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4"/>
          <p:cNvSpPr/>
          <p:nvPr/>
        </p:nvSpPr>
        <p:spPr>
          <a:xfrm>
            <a:off x="1143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v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90720" y="42670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antipática y dogm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1143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novio de Ev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295280" y="4495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Comment 4"/>
          <p:cNvSpPr/>
          <p:nvPr/>
        </p:nvSpPr>
        <p:spPr>
          <a:xfrm>
            <a:off x="12193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990720" y="4267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restaurante méxicano donde trabaj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4"/>
          <p:cNvSpPr/>
          <p:nvPr/>
        </p:nvSpPr>
        <p:spPr>
          <a:xfrm>
            <a:off x="1143000" y="2592360"/>
            <a:ext cx="2133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762120" y="2743200"/>
            <a:ext cx="8076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blo es de México, ¿______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600200" y="3886200"/>
            <a:ext cx="5334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orrecto.  Es del D.F. pero vive ahora en Colu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4"/>
          <p:cNvSpPr/>
          <p:nvPr/>
        </p:nvSpPr>
        <p:spPr>
          <a:xfrm>
            <a:off x="6248520" y="2592360"/>
            <a:ext cx="1447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vi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295280" y="426708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e en Cartegena.  Estudia con una b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1143000" y="259236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762120" y="27432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tudia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600200" y="39625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udia en la escuela de arte Simon Boliv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121932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trabaja Pablo en el restaurante méxic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066680" y="457200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rque tiene que ganar dine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Comment 4"/>
          <p:cNvSpPr/>
          <p:nvPr/>
        </p:nvSpPr>
        <p:spPr>
          <a:xfrm>
            <a:off x="1143000" y="2592360"/>
            <a:ext cx="2514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an Sara y Jul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62120" y="47242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an al restaurante méxicano donde trabaja Pab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día es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y es lu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Comment 5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es Ele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523880" y="41911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ena es la hermana menor de Sa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son Julia y Sa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676520" y="47242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nuevas amigas de Pab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4"/>
          <p:cNvSpPr/>
          <p:nvPr/>
        </p:nvSpPr>
        <p:spPr>
          <a:xfrm>
            <a:off x="129528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el señor Tor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219320" y="44956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director de la escuela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4"/>
          <p:cNvSpPr/>
          <p:nvPr/>
        </p:nvSpPr>
        <p:spPr>
          <a:xfrm>
            <a:off x="1219320" y="205740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143000" y="41911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e en Cartegena, Colu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n la madre y la hermana d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47242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en en México, D.F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va Pablo después de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080" y="472428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a a su trabajo en el restaurante méxic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 vas a las once y cuarto de la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600200" y="457200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mi clase de matémati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 hora es tu clase de matemátic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447920" y="43434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tengo a las once y cuarto de la mañ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1981080" y="1981080"/>
            <a:ext cx="1371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llegas tarde a cla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143000" y="4191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 siento.  El autobús fue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62120" y="2286000"/>
            <a:ext cx="70102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cuesta una neuva computadora aquí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990720" y="48006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malmente a eso de mil dólares, señ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4"/>
          <p:cNvSpPr/>
          <p:nvPr/>
        </p:nvSpPr>
        <p:spPr>
          <a:xfrm>
            <a:off x="1219320" y="213372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años tien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go dieciseis añ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tu clase de españo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60020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tengo a las ocho de la mañ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838080" y="22096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no vamos al cine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685800" y="41911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¿por qué 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685800" y="220968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 cumpleaños es maña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600200" y="44956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voy a cumplir diecisiete añ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Comment 4"/>
          <p:cNvSpPr/>
          <p:nvPr/>
        </p:nvSpPr>
        <p:spPr>
          <a:xfrm>
            <a:off x="1371600" y="312408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60020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mpieza a las tres y cuarto de la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trabaj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600200" y="46483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bajo en Bob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38080" y="220968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trabaj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447920" y="3657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bajo todos los días después de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Comment 5"/>
          <p:cNvSpPr/>
          <p:nvPr/>
        </p:nvSpPr>
        <p:spPr>
          <a:xfrm>
            <a:off x="1219320" y="205740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 hora empieza tu trabajo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447920" y="43434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 trabajo empieza a las cuatro de la tarde h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Comment 4"/>
          <p:cNvSpPr/>
          <p:nvPr/>
        </p:nvSpPr>
        <p:spPr>
          <a:xfrm>
            <a:off x="1981080" y="1981080"/>
            <a:ext cx="1371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33520" y="27432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examen en la clase de españo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990720" y="4800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 examen es el jueves de este sem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Comment 4"/>
          <p:cNvSpPr/>
          <p:nvPr/>
        </p:nvSpPr>
        <p:spPr>
          <a:xfrm>
            <a:off x="106668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533520" y="27432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necesario estudi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990720" y="4800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 examen va a ser dific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omment 4"/>
          <p:cNvSpPr/>
          <p:nvPr/>
        </p:nvSpPr>
        <p:spPr>
          <a:xfrm>
            <a:off x="106668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3505320" y="3733920"/>
            <a:ext cx="268128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tu profe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reportero para el periódico de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tu dirección en Intern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46483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abezadevaca@yahoo.c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miércoles dos de octu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0:03:36Z</dcterms:created>
  <dc:creator>Paul Widergren</dc:creator>
  <dc:description/>
  <dc:language>en-US</dc:language>
  <cp:lastModifiedBy>Jeff</cp:lastModifiedBy>
  <dcterms:modified xsi:type="dcterms:W3CDTF">2010-10-21T19:51:27Z</dcterms:modified>
  <cp:revision>4</cp:revision>
  <dc:subject/>
  <dc:title>No Slide Title</dc:title>
</cp:coreProperties>
</file>